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403D-4A1B-47E5-8F7B-8A043706C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202A-140A-427F-A6D8-F59BE616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AEE2-598A-48DD-B633-C30BB5D7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1357-28E7-4A20-9629-1AE632A9F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2595-686E-470A-BE48-79DAEE66D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FEB9C-8204-4974-BAA6-14F95DAC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4045C-00D3-4BBC-B45F-8E0DBAC2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729B-4422-4C45-A28A-59BAAB7F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C2408-AC28-4398-8671-C89965B1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50EA-5ADC-43FA-8CF6-DC373FB0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FEB0-FF82-40BC-9068-B90A0004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362A-0F9C-4313-A3BB-946EEC1C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C672-2DE9-46D6-89F3-981BD932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05A5A-46F4-4CB2-9D89-220D01485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0B6C-6B7D-4A6C-89C3-0CB190BF2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96A6-6BE4-4CB0-9F89-5F16B34C8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0759-F0FF-48BD-BCCF-5D6F41DA7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9756-8EBD-4E7A-8D4B-B27CCC51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BBB-E858-49BC-A080-E6624E28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4183-21CE-48D0-A215-66D2CD65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C0D-A3CA-48DA-885F-6A45B9BC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0EF1-DE78-4115-ABCD-A6C9C0C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B5A-B70A-4DEF-9278-BE5C75E8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7566-9C86-4228-8DB2-389A8BD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B505-798F-41F7-90F8-CF0F41B454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CE82-2F03-4D60-9554-7DA6EB0656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acances Roumaine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zea Catal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403812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Comme vous le savez le roumains prefere les vacances dans la mere ou a la montagne. Ce qui se passerait si certain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étrangers se visite Roumani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14600" y="762120"/>
            <a:ext cx="411480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Je me suis rendu avec ma famille le Carpates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t j'ai vu paysages fascinants.Le marcher fait sur le montagne </a:t>
            </a:r>
            <a:r>
              <a:rPr b="0" lang="fr-FR" sz="3200" spc="-1" strike="noStrike">
                <a:solidFill>
                  <a:srgbClr val="ffffff"/>
                </a:solidFill>
                <a:latin typeface="Times New Roman"/>
              </a:rPr>
              <a:t>ne se compare pas à quoi que ce so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e une mere Je peux dire que le litorall Roumain est tre visite de touriste de partou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La Roumanie a</a:t>
            </a:r>
            <a:r>
              <a:rPr b="0" lang="ro-RO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 beaucoup de beaux paysages et des monuments historiques visités par les étrang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2584440" cy="259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289584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imes New Roman"/>
              </a:rPr>
              <a:t>Ils étaient très excités à propos de ce pay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5800" y="2625840"/>
            <a:ext cx="358128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lackWolf</cp:lastModifiedBy>
  <dcterms:modified xsi:type="dcterms:W3CDTF">2012-12-10T20:06:5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